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D6D8A9-04A4-470F-8E44-A7424B882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52CFFE-1931-4179-BE73-5202828E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3990A3-C82A-4640-AF55-8E2141DD6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C5121A-842E-43C9-8B09-D4F8D12A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n use Similar to IS-A within ontology, but do not inheri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5A57B1-0B8E-4547-AEF4-64181A9DC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FB74C3-546B-4CD8-ACDD-1B941777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55950B-5DD5-4B44-A166-B04A8E06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B7BFC0-8542-43BC-B50B-473AE68E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C6B960-1081-415E-A5A1-A8315598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F2928D-0DB4-4D45-A248-C3EABA27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D508F4-F1A3-4297-8D90-13DDCD20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ustomers can assimilate at most one “big thing”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oriented architectures have been anointed, and suck the oxygen from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oom for Sem-Web in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4B134E-E61D-4332-9433-B0ED4F86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2B219D-F5C7-4E6C-9067-4805CA04B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are mapped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bject correspondences,(Match, Derive attrib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 instance-set mapping  (M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07328A-14C0-454D-9F66-9C9059B5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D74832-CB6E-4287-9FB9-56A8866AC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C4810A-69AB-4202-A22F-63D90C0BB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(e.g. Castano et. al., TO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and display convenience mea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mewhe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ystem, you’ll have something record-oriented. So you need to sell that a second formalism is worth introdu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1F5B80-394A-4EE0-ACA6-5AF48221A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 Castano et. al., T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AC4-CF60-4D38-97E7-DCC0858D3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9CED-2E32-4F65-ABF7-52A88C1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D138-2292-4E45-9996-04BF501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AC7F-81EF-48AB-BABA-B200576E0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B9B6-1F16-4A6C-BD08-BFC69389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F8EF-810A-482B-958F-B6E2B91D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D61B3-B227-4950-B974-B53346D4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F3EC-C80C-4D22-A629-25F3E249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4188-AE2D-4E25-B92E-C747C1A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4EEFA-8725-47D6-A2AC-8DF6A1F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37564-B904-458B-A5AF-DDB7AF8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B800-B21A-4162-8652-6EA3041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34024-080D-41D8-BACB-1B4D1636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8672B-57C7-4524-A0F6-875275A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0A668-3FDD-4CC7-80E8-F04F505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B1013-16C0-4B1F-BD03-528C4643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4C9E-444C-4983-BB7E-D4465D6F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DC2F-82DF-4973-97BF-A69F1E6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BA00-CAE6-46E6-8BC6-FBC6E1B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07A5-D237-4975-AB45-CFAA32A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1FEB-8531-4F6A-A923-0EFDA2C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F82E-0FF0-40DE-87D0-1714C58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D69B-559E-4FE8-9D29-D1A8D6E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EA82-A41D-4DC0-8640-C350E10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C78-ECBF-4ED4-849B-6130F15E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533520" y="1600200"/>
            <a:ext cx="81928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8043840" y="631836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6493680" y="6513480"/>
            <a:ext cx="25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The MITRE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65B-98DE-4BC0-8389-28C3BF9B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283E-FBB2-4930-A614-C8A0C071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sting typical SW and DB approaches to semantic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n Ros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F9EA-4AB5-4CEA-8371-79663FF36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002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WL has both theory and tool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ecute by inference eng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t tuned to query processor 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22093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Homegrown lo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Even simple Datalogs won’t inter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200"/>
            </a:b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appings are in popular query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Efficien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: parallel, query optim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Deployable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e.g., change 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00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                            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998-A7BB-4C51-85C3-73754C96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Usable_f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l’ships use formalism very similar to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S-A is “native”, i.e., part of the regula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-A logically merges the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WL is insufficient,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ule languages over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{informal or formal logic assrtns.} or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ore powerful (data exchange logic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ology: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 TGD =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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  <a:cs typeface="Arial"/>
              </a:rPr>
              <a:t>ש</a:t>
            </a:r>
            <a:r>
              <a:rPr b="0" lang="ar-SA" sz="2000" spc="-1" strike="noStrike">
                <a:solidFill>
                  <a:srgbClr val="ff0066"/>
                </a:solidFill>
                <a:latin typeface="Arial"/>
                <a:cs typeface="Arial"/>
              </a:rPr>
              <a:t>څ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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View defns are big: hard to edit (and to re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8C46-A8CF-45B5-9161-B489947BB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ever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engine infer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s this tolerable? Why (no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2285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ined from user viewpoint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rd to learn or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scards tuples unnecessar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7EE-68E8-4A30-BDBE-BA9D49B0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le for”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formalism can be used to describe either systems or domai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ble_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rectional, to relate concepts that are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_for does not force inheritance – one system may have fewer attrib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ey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Formalis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tandard construct for “can be used for” super-property ≈ tuple-generating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rect or via neutral model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and match, share info and infer ove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Execution environment: DBM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, query optimization,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ilingual (SQL, XML), add RDF when it reaches critical mass ($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A0BA-5416-4686-9229-27604455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Alignment” research is hard t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picuous lack of widely-used products, from eith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ers/matchers automat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ork of an integration engineer, but c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+%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lve a major “customer”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a robust mediator, there aint no customer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F8EB-CBF7-4F1E-81AD-361E175F9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685800" y="5029200"/>
            <a:ext cx="807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Touch the end users,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one outside the IT d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 in their work as schemas ev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de for end users 80%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unities addressing simila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ndards, cleaner formalism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e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gmatics and richer suites on the d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ly formalism independent, could be imported, esp. “Instant grat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A66-6541-4B4D-8A76-7825041DC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versions of a comm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matching ≈ Align classes/properties in ont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a-models, similar core proble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eith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omai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chemas (for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omain model and one sche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 Identify the relationship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instance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, IS-A, “usable for” seem the main ones helpful to a “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y need to transform to make things ma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F11-D5C0-4471-B6F4-55B6867D6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des have elaps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base side:  Survey of schema matching research (Batini et. al., 198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schema may be constructed from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sioned end product is a SQL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is on “where can we find clues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m-Web precursors:  ISI, MCC – domain model (in logic) plus articulation axi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within the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ing-based. Each project had its own formal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Obvious question: Why no robust products ye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3EBC-DC0F-4038-B969-BEED781C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ping ahead to my conclusions (SW competi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nterprise systems today, lean toward DB and XML tool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9900"/>
                </a:solidFill>
                <a:latin typeface="Arial"/>
              </a:rPr>
              <a:t>unless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 you really exploit ontologies’ greater expressive power (value taxonomies, IS-A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uring sem-web environments will (by definition) import knowledge from big data integration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AFC0-EB2D-4024-AD43-CF72A3659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43B-2220-4631-A331-37ACC830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spondence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form approaches (can be multi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19320" y="2743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467480" y="2666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905120" y="3200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295280" y="5029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543800" y="4952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962520" y="510552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98108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5627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B676-8D15-4AF9-9DBD-6C576B28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work – not associated with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o use when creating? describ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loud"/>
          <p:cNvSpPr/>
          <p:nvPr/>
        </p:nvSpPr>
        <p:spPr>
          <a:xfrm>
            <a:off x="3276720" y="32004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800600" y="464832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114800" y="38862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loud"/>
          <p:cNvSpPr/>
          <p:nvPr/>
        </p:nvSpPr>
        <p:spPr>
          <a:xfrm>
            <a:off x="3276720" y="495288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800600" y="34290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5715000" y="4343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505320" y="411480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781-34D6-4EEA-85AD-F5C388673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 (e.g.., P2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eutral intermediary to connect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4191120" y="464832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191120" y="3505320"/>
            <a:ext cx="609480" cy="4572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105520" y="44197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429000" y="4114800"/>
            <a:ext cx="76320" cy="99072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276720" y="32767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191120" y="3962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276720" y="5105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824-7419-466D-B5C1-8FAE5819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atomic concept (object or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chunks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easy to relate &amp;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bust for multiple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1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relation or tre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cord is a good chunk for storage 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ts are present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ystem or a physical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555-1008-49A9-BF37-32212E58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via neutral def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use is easie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ll administrators  understand “foreign” or abstract concept def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relationships and flows betwee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stant gratification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funding is usually for an applic’n, not for integrat’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fferences i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eal dat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lead to improv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Tools examine th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billion indust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ature-rich, scalabl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8:24:07Z</dcterms:created>
  <dc:creator>Arnon Rosenthal, Len Seligman</dc:creator>
  <dc:description/>
  <dc:language>en-US</dc:language>
  <cp:lastModifiedBy>Arnon Rosenthal</cp:lastModifiedBy>
  <cp:lastPrinted>2003-02-26T12:46:23Z</cp:lastPrinted>
  <dcterms:modified xsi:type="dcterms:W3CDTF">2008-06-10T22:42:16Z</dcterms:modified>
  <cp:revision>146</cp:revision>
  <dc:subject/>
  <dc:title>Pragmatics of Applying (Data Exchange)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5303894</vt:r8>
  </property>
  <property fmtid="{D5CDD505-2E9C-101B-9397-08002B2CF9AE}" pid="3" name="_AuthorEmail">
    <vt:lpwstr>arnie@mitre.org</vt:lpwstr>
  </property>
  <property fmtid="{D5CDD505-2E9C-101B-9397-08002B2CF9AE}" pid="4" name="_AuthorEmailDisplayName">
    <vt:lpwstr>Rosenthal, Arnon S.</vt:lpwstr>
  </property>
  <property fmtid="{D5CDD505-2E9C-101B-9397-08002B2CF9AE}" pid="5" name="_EmailSubject">
    <vt:lpwstr>presentations from Cambridge SW meeting?</vt:lpwstr>
  </property>
  <property fmtid="{D5CDD505-2E9C-101B-9397-08002B2CF9AE}" pid="6" name="_NewReviewCycle">
    <vt:lpwstr/>
  </property>
</Properties>
</file>